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7303-0648-4A37-87A5-EC0BD1DF2A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868F-135C-4F5B-9B22-CC92589663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8B9A-3782-4310-8E83-0760F5E86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52AA-C4E7-4E00-A142-55A74083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4F2B-EAA6-4853-84D2-2103F1E23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86CC-AC58-4076-9519-4BFB5E061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1F8F-D10E-40EC-AC1E-46BB8760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E09B-B877-407A-96B4-F4BFB64E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11BA-7E72-4180-A5E5-B8D8B451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4F2B-AD46-4758-87DA-8BBAE131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AC99-10B5-4787-9D55-51F9B519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82D9-3B5D-4FF0-9006-F974EBB2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E185-C3F3-4FAB-8B9F-14375D0D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FE16-5232-4AD0-B006-E9B5C061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C5B1-B0AC-4821-B2C7-C44D6ABD2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://www.firstplaceschool.org/education/omangapweb2007_files/master31_backgroun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1143000" y="1905120"/>
            <a:ext cx="754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radley Hand ITC"/>
              </a:rPr>
              <a:t>Welcome to Open Hous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radley Hand ITC"/>
              </a:rPr>
              <a:t>Miss Steve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radley Hand ITC"/>
              </a:rPr>
              <a:t>2</a:t>
            </a:r>
            <a:r>
              <a:rPr b="1" lang="en-US" sz="5400" spc="-1" strike="noStrike" baseline="30000">
                <a:solidFill>
                  <a:srgbClr val="ffffff"/>
                </a:solidFill>
                <a:latin typeface="Bradley Hand ITC"/>
              </a:rPr>
              <a:t>nd</a:t>
            </a:r>
            <a:r>
              <a:rPr b="1" lang="en-US" sz="5400" spc="-1" strike="noStrike">
                <a:solidFill>
                  <a:srgbClr val="ffffff"/>
                </a:solidFill>
                <a:latin typeface="Bradley Hand ITC"/>
              </a:rPr>
              <a:t> Grad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radley Hand ITC"/>
              </a:rPr>
              <a:t>Room 127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://www.firstplaceschool.org/education/omangapweb2007_files/master31_background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2286000" y="457200"/>
            <a:ext cx="495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radley Hand ITC"/>
              </a:rPr>
              <a:t>Daily Schedul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685800" y="1447920"/>
            <a:ext cx="8001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radley Hand ITC"/>
              </a:rPr>
              <a:t>8:25-9:00 Get Ready Time / Morning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radley Hand ITC"/>
              </a:rPr>
              <a:t>9:00-9:10  Ma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radley Hand ITC"/>
              </a:rPr>
              <a:t>9:10-9:50  Special  (A-Art, B-P.E., C-Musi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radley Hand ITC"/>
              </a:rPr>
              <a:t>9:50-10:40  Ma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radley Hand ITC"/>
              </a:rPr>
              <a:t>10:40-11:40  Lunch / Re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radley Hand ITC"/>
              </a:rPr>
              <a:t>11:40-12:10  Spelling / Phon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radley Hand ITC"/>
              </a:rPr>
              <a:t>12:10-1:25  Rea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radley Hand ITC"/>
              </a:rPr>
              <a:t>1:25-1:35  Snack / Silent Re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radley Hand ITC"/>
              </a:rPr>
              <a:t>1:35-2:20  Social Studies / Sci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radley Hand ITC"/>
              </a:rPr>
              <a:t>2:20-3:00  Writer’s Worksh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radley Hand ITC"/>
              </a:rPr>
              <a:t>3:00-3:10  Pack up / Home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radley Hand ITC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Bradley Hand ITC"/>
              </a:rPr>
              <a:t>Computer Lab</a:t>
            </a:r>
            <a:r>
              <a:rPr b="1" lang="en-US" sz="2000" spc="-1" strike="noStrike">
                <a:solidFill>
                  <a:srgbClr val="ffffff"/>
                </a:solidFill>
                <a:latin typeface="Bradley Hand ITC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radley Hand ITC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radley Hand ITC"/>
              </a:rPr>
              <a:t>           Library</a:t>
            </a:r>
            <a:r>
              <a:rPr b="1" lang="en-US" sz="2000" spc="-1" strike="noStrike">
                <a:solidFill>
                  <a:srgbClr val="ffffff"/>
                </a:solidFill>
                <a:latin typeface="Bradley Hand ITC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radley Hand ITC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radley Hand ITC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radley Hand ITC"/>
              </a:rPr>
              <a:t>Typing</a:t>
            </a:r>
            <a:r>
              <a:rPr b="1" lang="en-US" sz="2000" spc="-1" strike="noStrike">
                <a:solidFill>
                  <a:srgbClr val="ffffff"/>
                </a:solidFill>
                <a:latin typeface="Bradley Hand IT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radley Hand ITC"/>
              </a:rPr>
              <a:t>Fridays 1:05-1:45             Tuesdays 1:45-2:15</a:t>
            </a:r>
            <a:r>
              <a:rPr b="1" lang="en-US" sz="2000" spc="-1" strike="noStrike">
                <a:solidFill>
                  <a:srgbClr val="ffffff"/>
                </a:solidFill>
                <a:latin typeface="Bradley Hand ITC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radley Hand ITC"/>
              </a:rPr>
              <a:t>               T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Behavior Management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radley Hand ITC"/>
              </a:rPr>
              <a:t>Stop Ligh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radley Hand ITC"/>
              </a:rPr>
              <a:t>Green = Great Job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radley Hand ITC"/>
              </a:rPr>
              <a:t>Yellow = Warn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radley Hand ITC"/>
              </a:rPr>
              <a:t>Orange = Lose 5 minutes of rec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radley Hand ITC"/>
              </a:rPr>
              <a:t>Red = Lose 15 minutes of rec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radley Hand ITC"/>
              </a:rPr>
              <a:t>   </a:t>
            </a:r>
            <a:r>
              <a:rPr b="1" lang="en-US" sz="3000" spc="-1" strike="noStrike">
                <a:solidFill>
                  <a:srgbClr val="ffffff"/>
                </a:solidFill>
                <a:latin typeface="Bradley Hand ITC"/>
              </a:rPr>
              <a:t>Oops Notice will be sent home if a student is on orange or red.  They will need to be signed and returned the following day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www.firstplaceschool.org/education/omangapweb2007_files/master31_backgroun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2133720" y="457200"/>
            <a:ext cx="480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radley Hand ITC"/>
              </a:rPr>
              <a:t>Curriculum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1066680" y="15238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-Based on standards set by the st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Mat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- Homelinks Book, Problem Solving, Graphing, Uni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Assessments, + and – (not for grad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Rea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-Textbook home on Tuesdays, Fresh Reads, Grammar,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Story Assessment, Story Ma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Spel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-Spelling Pretest, Spelling Word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Social Studies and Sci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-Unit Assess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http://www.firstplaceschool.org/education/omangapweb2007_files/master31_backgroun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2133720" y="533520"/>
            <a:ext cx="4724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Misc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762120" y="1523880"/>
            <a:ext cx="8381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-Grades – Progress Book, %s, Interi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-Standardized Tests – 2 tests in the win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(achievement) and (abili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-Assignment Books – sign / no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-Homework – 20 minu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-Scholastic Book or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-Water Bott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-Projects (tre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http://www.firstplaceschool.org/education/omangapweb2007_files/master31_backgroun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2286000" y="533520"/>
            <a:ext cx="480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radley Hand ITC"/>
              </a:rPr>
              <a:t>School Polici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838080" y="1371600"/>
            <a:ext cx="83059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-No toys from home at recess, 25 degrees with wind chi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-Send in a note when your child returns from an absence.  No make-up work until after student comes bac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-Vacations must be preapproved by the princip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-Send in a note if there is a change in transportation.  If you call in, the cut off time is 1:3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-Birthday treats are passed out at lunch, please try and let me know ahead of time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EZPay – Pay lunch account and school fees ($96.14) on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-Principals Newsletters  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-Lunch Money –Send in a marked envelope (child’s name, my name, amount, and lunch money writ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-Box to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http://www.firstplaceschool.org/education/omangapweb2007_files/master31_backgroun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77" name="TextBox 4"/>
          <p:cNvSpPr/>
          <p:nvPr/>
        </p:nvSpPr>
        <p:spPr>
          <a:xfrm>
            <a:off x="2133720" y="533520"/>
            <a:ext cx="495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Contact Inform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990720" y="1676520"/>
            <a:ext cx="7848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radley Hand ITC"/>
              </a:rPr>
              <a:t>Email – Kstevens@springboro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radley Hand ITC"/>
              </a:rPr>
              <a:t>Phone – (937) 748-609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radley Hand ITC"/>
              </a:rPr>
              <a:t>Webpage - www.springboro.wikispaces.com/kstev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9T20:51:42Z</dcterms:created>
  <dc:creator>Katie Stevens</dc:creator>
  <dc:description/>
  <dc:language>en-US</dc:language>
  <cp:lastModifiedBy>Katie Stevens</cp:lastModifiedBy>
  <dcterms:modified xsi:type="dcterms:W3CDTF">2010-08-31T20:36:05Z</dcterms:modified>
  <cp:revision>11</cp:revision>
  <dc:subject/>
  <dc:title>Slide 1</dc:title>
</cp:coreProperties>
</file>